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CE8-5177-4128-B30E-DD87A38F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FCC-C7AE-4B4A-854F-33326CD7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D38-69F7-43EC-AD30-3C052395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DB1-C4E8-479E-82EA-07C66785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E0F-9AA8-45A9-86C5-2CE52290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AD70-FFC6-4B36-BC5E-30993CA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659C-A1DE-4BC5-A286-2E225A6F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C695-CD5A-468C-9ED4-5F41978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27E-946A-403A-A015-2380780B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14C1-E966-4D3A-B81D-3F5DB1B1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DD4-212E-46CB-8275-24891465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55E-EA65-48F0-8048-A057B5B0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17A6-7BBD-4011-8870-89BD9E8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76D8-12BB-4D2E-B119-350BE0DD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8F61-9682-4DAA-83D6-C0CD366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E9F-EE2C-48C3-9856-39C07542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A585-AB1B-4633-B3B3-38DB0FF5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BE8-6E90-4C1D-8A3A-0B10BB88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2E2-A79C-4AA8-9AAD-3E7ED17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013-6351-4210-9B80-0710F39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1E1-6FA1-43D1-906A-E09DAF4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2DA-CB6D-4A68-A782-D2AD9F7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52E-2D35-4E8F-AF34-E34A334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BDF-F18E-46BC-B48E-5E5E44F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A1F-FEAB-42C3-A2EC-2D75C0504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58C9-086F-429E-9246-A2709A8B4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barroso.com/" TargetMode="External"/><Relationship Id="rId2" Type="http://schemas.openxmlformats.org/officeDocument/2006/relationships/hyperlink" Target="http://www.lbarroso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loglines.com/" TargetMode="External"/><Relationship Id="rId2" Type="http://schemas.openxmlformats.org/officeDocument/2006/relationships/hyperlink" Target="http://www.blogline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4751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Tutorial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urdes Barr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lbarros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357012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067280" y="5373720"/>
            <a:ext cx="1241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32000" y="1844640"/>
            <a:ext cx="5987880" cy="1224000"/>
            <a:chOff x="1332000" y="1844640"/>
            <a:chExt cx="5987880" cy="12240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332000" y="191772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2700360" y="1844640"/>
              <a:ext cx="461952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581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033640" y="1533600"/>
            <a:ext cx="5076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Agrega suscribi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con Bloglines a favorit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9400" y="1593720"/>
            <a:ext cx="7045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 en tu navegado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y suscribir con Bloglin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66400" cy="276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781000" cy="250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5181840" cy="1276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708360" y="2852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467000" cy="343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20000400">
            <a:off x="4858920" y="5084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br>
              <a:rPr sz="5400"/>
            </a:b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rápida en Firefox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Arrastra el botón azul que aparece</a:t>
            </a:r>
            <a:br>
              <a:rPr sz="4000"/>
            </a:b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isible hasta la barra de herramienta de marcador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03280" y="3500280"/>
            <a:ext cx="5949720" cy="1971720"/>
            <a:chOff x="1403280" y="3500280"/>
            <a:chExt cx="5949720" cy="1971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403280" y="3643200"/>
              <a:ext cx="11620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771640" y="3500280"/>
              <a:ext cx="4581360" cy="19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c0c0"/>
                </a:solidFill>
                <a:latin typeface="Arial"/>
              </a:rPr>
              <a:t>Suscribiendo desde Firefox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143600" cy="1342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50920" y="450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mplemente haz clic sobre Suscribir con Blogl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elecciona una opción 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az clic en suscribi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181480" cy="1276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59280" y="2781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1466640" cy="343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cibiendo las notici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53520" cy="4867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1987560"/>
            <a:ext cx="719280" cy="360360"/>
          </a:xfrm>
          <a:prstGeom prst="rect">
            <a:avLst/>
          </a:prstGeom>
          <a:noFill/>
          <a:ln w="2844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361800" cy="399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26920" y="2995560"/>
            <a:ext cx="1944720" cy="289080"/>
          </a:xfrm>
          <a:prstGeom prst="rect">
            <a:avLst/>
          </a:prstGeom>
          <a:gradFill rotWithShape="0">
            <a:gsLst>
              <a:gs pos="0">
                <a:srgbClr val="0099ff">
                  <a:alpha val="36078"/>
                </a:srgbClr>
              </a:gs>
              <a:gs pos="100000">
                <a:srgbClr val="5cbdfe">
                  <a:alpha val="34117"/>
                </a:srgbClr>
              </a:gs>
            </a:gsLst>
            <a:lin ang="5400000"/>
          </a:gra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71640" y="2779560"/>
            <a:ext cx="360360" cy="2160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1197000"/>
            <a:ext cx="2232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074"/>
              <a:gd name="adj5" fmla="val 113282"/>
              <a:gd name="adj6" fmla="val -29162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C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422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9365"/>
              <a:gd name="adj5" fmla="val -172134"/>
              <a:gd name="adj6" fmla="val -20231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2276640"/>
            <a:ext cx="5185080" cy="4032000"/>
          </a:xfrm>
          <a:prstGeom prst="rect">
            <a:avLst/>
          </a:prstGeom>
          <a:gradFill rotWithShape="0">
            <a:gsLst>
              <a:gs pos="0">
                <a:srgbClr val="0099ff">
                  <a:alpha val="51372"/>
                </a:srgbClr>
              </a:gs>
              <a:gs pos="100000">
                <a:srgbClr val="85cdfe">
                  <a:alpha val="3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328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VEDAD DEL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484280"/>
            <a:ext cx="9097920" cy="4511880"/>
            <a:chOff x="0" y="1484280"/>
            <a:chExt cx="9097920" cy="45118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1555920"/>
              <a:ext cx="9097920" cy="44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2736720" y="2419200"/>
              <a:ext cx="253044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1484280"/>
              <a:ext cx="9072720" cy="9367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2000" y="1555920"/>
              <a:ext cx="28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b2b85"/>
                  </a:solidFill>
                  <a:latin typeface="Arial"/>
                </a:rPr>
                <a:t>Lector de </a:t>
              </a:r>
              <a:r>
                <a:rPr b="0" lang="es-ES" sz="3600" spc="-1" strike="noStrike">
                  <a:solidFill>
                    <a:srgbClr val="2b2b85"/>
                  </a:solidFill>
                  <a:latin typeface="Arial"/>
                </a:rPr>
                <a:t>Feed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73080" y="1555920"/>
              <a:ext cx="3570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4720" y="5516640"/>
              <a:ext cx="47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2b2b85"/>
                  </a:solidFill>
                  <a:latin typeface="Arial"/>
                </a:rPr>
                <a:t>Imagen de blogpocket modific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¿Para qué vale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suscribirte a los sitios web que te intere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eer lo que se haya publicado sin nave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guardar / publicar la in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235440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Regístrate en </a:t>
            </a:r>
            <a:br>
              <a:rPr sz="4000"/>
            </a:b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bloglines.com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716280"/>
            <a:ext cx="1584360" cy="165744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18920" y="4797000"/>
            <a:ext cx="649080" cy="360360"/>
          </a:xfrm>
          <a:prstGeom prst="line">
            <a:avLst/>
          </a:prstGeom>
          <a:ln w="57240">
            <a:solidFill>
              <a:srgbClr val="a693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508464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930a"/>
                </a:solidFill>
                <a:latin typeface="Arial"/>
              </a:rPr>
              <a:t>idi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ompleta los datos del registr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896160" cy="4619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rot="15522600">
            <a:off x="3100320" y="5116680"/>
            <a:ext cx="781200" cy="86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79640" y="5516640"/>
            <a:ext cx="1008000" cy="28872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ete a tu e-mail para confirmar el registr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alida tu registro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197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Botones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 Suscripción Fácil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1:46:08Z</dcterms:created>
  <dc:creator> </dc:creator>
  <dc:description/>
  <dc:language>en-US</dc:language>
  <cp:lastModifiedBy> </cp:lastModifiedBy>
  <dcterms:modified xsi:type="dcterms:W3CDTF">2007-10-21T18:36:27Z</dcterms:modified>
  <cp:revision>5</cp:revision>
  <dc:subject/>
  <dc:title>Tutorial de Bloglines</dc:title>
</cp:coreProperties>
</file>