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934-7D56-417F-A6EB-A790C530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11C-A230-4E97-B13C-5C5C839F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F21-A863-4D2A-AEA3-F864A5F5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A0D-4ED7-47C7-9AFC-F385AC73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49DD-3A27-4B0A-AE16-906AF336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8ABF-3AF8-453E-A01E-B1410CFF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6CA3-337C-42C2-B1B8-20169B75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D1E1-2248-42C6-B82C-F0958CA9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DE52-6780-402A-A18C-7E7DE3AD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9B03-DB5F-4FAB-ADCA-D8E2FF0B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F7B2-6DD0-4423-AEA3-95AEEE63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756-D88E-4E70-AD84-4A33C7AC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70C5-32C3-4D55-862B-CA7BF1FA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DF42-BE42-4D63-B48D-141AD08C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6A89-E394-41E4-9009-2296017F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8FE8-282A-46F8-8AC8-4BB0A179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BB42-C737-47B5-9822-D107A3AA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706-97EA-4EC6-AB07-D21C1496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88D-A590-4B06-BBED-017CCA9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950-7DEC-41C3-A664-5018255A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D59-2B20-4629-979B-3C462AA2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FD6-41E3-4F46-8083-72FC801A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DC0-B26F-4CF4-B392-B78DCD8B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603-A515-4D62-B754-24A9957F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C16F-BF1D-4FEF-8C25-718078670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AD5C-BB1E-4392-97BD-F84D30FE6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barroso.com/" TargetMode="External"/><Relationship Id="rId2" Type="http://schemas.openxmlformats.org/officeDocument/2006/relationships/hyperlink" Target="http://www.lbarroso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loglines.com/" TargetMode="External"/><Relationship Id="rId2" Type="http://schemas.openxmlformats.org/officeDocument/2006/relationships/hyperlink" Target="http://www.bloglines.com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620280"/>
            <a:ext cx="47516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0c0c0"/>
                </a:solidFill>
                <a:latin typeface="Arial"/>
              </a:rPr>
              <a:t>Tutorial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76360" y="414972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urdes Barr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4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lbarroso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3570120" cy="838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067280" y="5373720"/>
            <a:ext cx="1241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pende del navegado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32000" y="1844640"/>
            <a:ext cx="5987880" cy="1224000"/>
            <a:chOff x="1332000" y="1844640"/>
            <a:chExt cx="5987880" cy="122400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1332000" y="1917720"/>
              <a:ext cx="11509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2700360" y="1844640"/>
              <a:ext cx="461952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635280" y="3068640"/>
            <a:ext cx="4581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pende del navegado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033640" y="1533600"/>
            <a:ext cx="5076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Agrega suscribir</a:t>
            </a: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con Bloglines a favorito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49400" y="1593720"/>
            <a:ext cx="70452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Selecciona </a:t>
            </a: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 en tu navegador</a:t>
            </a:r>
            <a:br>
              <a:rPr sz="4000"/>
            </a:b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y suscribir con Blogline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66400" cy="276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2781000" cy="2504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5181840" cy="1276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708360" y="2852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ciona un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3708360" y="4941720"/>
            <a:ext cx="1467000" cy="3430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20000400">
            <a:off x="4858920" y="5084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0c0c0"/>
                </a:solidFill>
                <a:latin typeface="Arial"/>
              </a:rPr>
              <a:t>Botón de suscripción</a:t>
            </a:r>
            <a:br>
              <a:rPr sz="5400"/>
            </a:br>
            <a:r>
              <a:rPr b="0" lang="es-ES" sz="5400" spc="-1" strike="noStrike">
                <a:solidFill>
                  <a:srgbClr val="c0c0c0"/>
                </a:solidFill>
                <a:latin typeface="Arial"/>
              </a:rPr>
              <a:t>rápida en Firefox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Selecciona </a:t>
            </a:r>
            <a:r>
              <a:rPr b="1" i="1" lang="en-US" sz="4000" spc="-1" strike="noStrike">
                <a:solidFill>
                  <a:srgbClr val="c0c0c0"/>
                </a:solidFill>
                <a:latin typeface="Arial"/>
              </a:rPr>
              <a:t>Canales</a:t>
            </a:r>
            <a:br>
              <a:rPr sz="4000"/>
            </a:b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Haz clic sobre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Botón de Suscripción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29680" cy="1143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4781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Arrastra el botón azul que aparece</a:t>
            </a:r>
            <a:br>
              <a:rPr sz="4000"/>
            </a:b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visible hasta la barra de herramienta de marcadores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403280" y="3500280"/>
            <a:ext cx="5949720" cy="1971720"/>
            <a:chOff x="1403280" y="3500280"/>
            <a:chExt cx="5949720" cy="197172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1403280" y="3643200"/>
              <a:ext cx="116208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2771640" y="3500280"/>
              <a:ext cx="4581360" cy="19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0c0c0"/>
                </a:solidFill>
                <a:latin typeface="Arial"/>
              </a:rPr>
              <a:t>Suscribiendo desde Firefox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143600" cy="1342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050920" y="4508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mplemente haz clic sobre Suscribir con Blogli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elecciona una opción </a:t>
            </a:r>
            <a:br>
              <a:rPr sz="4400"/>
            </a:b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haz clic en suscribir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5181480" cy="1276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059280" y="2781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ciona un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1466640" cy="343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076720" y="4941720"/>
            <a:ext cx="717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Recibiendo las noticias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53520" cy="48672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900000" y="1987560"/>
            <a:ext cx="719280" cy="360360"/>
          </a:xfrm>
          <a:prstGeom prst="rect">
            <a:avLst/>
          </a:prstGeom>
          <a:noFill/>
          <a:ln w="2844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361800" cy="399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826920" y="2995560"/>
            <a:ext cx="1944720" cy="289080"/>
          </a:xfrm>
          <a:prstGeom prst="rect">
            <a:avLst/>
          </a:prstGeom>
          <a:gradFill rotWithShape="0">
            <a:gsLst>
              <a:gs pos="0">
                <a:srgbClr val="0099ff">
                  <a:alpha val="36078"/>
                </a:srgbClr>
              </a:gs>
              <a:gs pos="100000">
                <a:srgbClr val="5cbdfe">
                  <a:alpha val="34117"/>
                </a:srgbClr>
              </a:gs>
            </a:gsLst>
            <a:lin ang="5400000"/>
          </a:gra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771640" y="2779560"/>
            <a:ext cx="360360" cy="2160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63640" y="1197000"/>
            <a:ext cx="2232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074"/>
              <a:gd name="adj5" fmla="val 113282"/>
              <a:gd name="adj6" fmla="val -29162"/>
            </a:avLst>
          </a:prstGeom>
          <a:gradFill rotWithShape="0">
            <a:gsLst>
              <a:gs pos="0">
                <a:srgbClr val="0099ff">
                  <a:alpha val="81176"/>
                </a:srgbClr>
              </a:gs>
              <a:gs pos="100000">
                <a:srgbClr val="64c0fe">
                  <a:alpha val="81176"/>
                </a:srgbClr>
              </a:gs>
            </a:gsLst>
            <a:lin ang="5400000"/>
          </a:gradFill>
          <a:ln w="1908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Selecci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Ca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3640" y="422100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9365"/>
              <a:gd name="adj5" fmla="val -172134"/>
              <a:gd name="adj6" fmla="val -20231"/>
            </a:avLst>
          </a:prstGeom>
          <a:gradFill rotWithShape="0">
            <a:gsLst>
              <a:gs pos="0">
                <a:srgbClr val="0099ff">
                  <a:alpha val="81176"/>
                </a:srgbClr>
              </a:gs>
              <a:gs pos="100000">
                <a:srgbClr val="64c0fe">
                  <a:alpha val="81176"/>
                </a:srgbClr>
              </a:gs>
            </a:gsLst>
            <a:lin ang="5400000"/>
          </a:gradFill>
          <a:ln w="1908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Selecci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4a"/>
                </a:solidFill>
                <a:latin typeface="Arial"/>
              </a:rPr>
              <a:t>Un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2000" y="2276640"/>
            <a:ext cx="5185080" cy="4032000"/>
          </a:xfrm>
          <a:prstGeom prst="rect">
            <a:avLst/>
          </a:prstGeom>
          <a:gradFill rotWithShape="0">
            <a:gsLst>
              <a:gs pos="0">
                <a:srgbClr val="0099ff">
                  <a:alpha val="51372"/>
                </a:srgbClr>
              </a:gs>
              <a:gs pos="100000">
                <a:srgbClr val="85cdfe">
                  <a:alpha val="38039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51280" y="328464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VEDAD DEL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484280"/>
            <a:ext cx="9097920" cy="4511880"/>
            <a:chOff x="0" y="1484280"/>
            <a:chExt cx="9097920" cy="45118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0" y="1555920"/>
              <a:ext cx="9097920" cy="44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2736720" y="2419200"/>
              <a:ext cx="2530440" cy="4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0" y="1484280"/>
              <a:ext cx="9072720" cy="9367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72000" y="1555920"/>
              <a:ext cx="28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2b2b85"/>
                  </a:solidFill>
                  <a:latin typeface="Arial"/>
                </a:rPr>
                <a:t>Lector de </a:t>
              </a:r>
              <a:r>
                <a:rPr b="0" lang="es-ES" sz="3600" spc="-1" strike="noStrike">
                  <a:solidFill>
                    <a:srgbClr val="2b2b85"/>
                  </a:solidFill>
                  <a:latin typeface="Arial"/>
                </a:rPr>
                <a:t>Feed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73080" y="1555920"/>
              <a:ext cx="35701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04720" y="5516640"/>
              <a:ext cx="47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2b2b85"/>
                  </a:solidFill>
                  <a:latin typeface="Arial"/>
                </a:rPr>
                <a:t>Imagen de blogpocket modificad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¿Para qué vale?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suscribirte a los sitios web que te interes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eer lo que se haya publicado sin naveg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guardar / publicar la inform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987640" y="3284640"/>
            <a:ext cx="2354400" cy="3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0c0c0"/>
                </a:solidFill>
                <a:latin typeface="Arial"/>
              </a:rPr>
              <a:t>Regístrate en </a:t>
            </a:r>
            <a:br>
              <a:rPr sz="4000"/>
            </a:br>
            <a:r>
              <a:rPr b="0" lang="es-ES" sz="4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4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bloglines.com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3716280"/>
            <a:ext cx="1584360" cy="1657440"/>
          </a:xfrm>
          <a:prstGeom prst="rect">
            <a:avLst/>
          </a:prstGeom>
          <a:noFill/>
          <a:ln w="3816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618920" y="4797000"/>
            <a:ext cx="649080" cy="360360"/>
          </a:xfrm>
          <a:prstGeom prst="line">
            <a:avLst/>
          </a:prstGeom>
          <a:ln w="57240">
            <a:solidFill>
              <a:srgbClr val="a693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508464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508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930a"/>
                </a:solidFill>
                <a:latin typeface="Arial"/>
              </a:rPr>
              <a:t>idio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ompleta los datos del registro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896160" cy="4619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 rot="15522600">
            <a:off x="3100320" y="5116680"/>
            <a:ext cx="781200" cy="863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79640" y="5516640"/>
            <a:ext cx="1008000" cy="288720"/>
          </a:xfrm>
          <a:prstGeom prst="rect">
            <a:avLst/>
          </a:prstGeom>
          <a:noFill/>
          <a:ln w="38160">
            <a:solidFill>
              <a:srgbClr val="a69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Vete a tu e-mail para confirmar el registro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1341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Valida tu registro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2197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Botones</a:t>
            </a:r>
            <a:br>
              <a:rPr sz="4400"/>
            </a:b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de Suscripción Fácil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Selecciona </a:t>
            </a:r>
            <a:r>
              <a:rPr b="1" i="1" lang="en-US" sz="4000" spc="-1" strike="noStrike">
                <a:solidFill>
                  <a:srgbClr val="c0c0c0"/>
                </a:solidFill>
                <a:latin typeface="Arial"/>
              </a:rPr>
              <a:t>Canales</a:t>
            </a:r>
            <a:br>
              <a:rPr sz="4000"/>
            </a:br>
            <a:r>
              <a:rPr b="0" lang="en-US" sz="3200" spc="-1" strike="noStrike">
                <a:solidFill>
                  <a:srgbClr val="c0c0c0"/>
                </a:solidFill>
                <a:latin typeface="Arial"/>
              </a:rPr>
              <a:t>Haz clic sobre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Botón de Suscripción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2968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4781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1:46:08Z</dcterms:created>
  <dc:creator> </dc:creator>
  <dc:description/>
  <dc:language>en-US</dc:language>
  <cp:lastModifiedBy> </cp:lastModifiedBy>
  <dcterms:modified xsi:type="dcterms:W3CDTF">2007-10-21T18:36:27Z</dcterms:modified>
  <cp:revision>5</cp:revision>
  <dc:subject/>
  <dc:title>Tutorial de Bloglines</dc:title>
</cp:coreProperties>
</file>