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0A7-A672-49C6-B514-D5A73989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C6F-CA44-4536-B64C-0706AA1D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7BC-6017-4FC6-A3F8-FE4B9558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BEE-F4DB-4150-AD8D-032E0843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1A46-FD79-4FE9-A5F5-85E08163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BBB3-FF09-4E21-9883-8EC4EAAF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C711-7962-405E-BE2B-AF1B7838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4540-61CE-4C55-A48D-EC604260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0C85-EF28-4349-BB4C-82407593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759C-E7B9-44E7-93C0-1DE77E9D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D595-9B1A-4323-BF61-12549E4A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B9B-4846-41D9-96F2-EB335464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BA2A-4DF9-4F48-B982-84867F17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F086-DC19-4650-B144-43DBAAB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627E-7415-4E43-B6EF-62800A05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C54C-1999-4B8B-99AA-6F6AFEF0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E5CE-935C-4B3A-922C-B112800D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DB3-0FBE-495A-B03A-E7B03770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5E7-B46F-4A3B-BCA2-CEDF32C1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097-51F2-4B38-B3BA-2E60B457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E16-142A-42DE-B75B-7BEC1A96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513-D220-4F45-8EE8-74DFEBD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201-578C-4351-A32C-D1E70EB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59F-741A-45A6-9DFF-9265DFE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5D46-B3EC-4215-AA3C-3E6BAF46E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4808-2D76-4CEA-88A9-6D88BE880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barroso.com/" TargetMode="External"/><Relationship Id="rId2" Type="http://schemas.openxmlformats.org/officeDocument/2006/relationships/hyperlink" Target="http://www.lbarroso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loglines.com/" TargetMode="External"/><Relationship Id="rId2" Type="http://schemas.openxmlformats.org/officeDocument/2006/relationships/hyperlink" Target="http://www.bloglines.com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47516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Tutorial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76360" y="414972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urdes Barr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lbarros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3570120" cy="838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067280" y="5373720"/>
            <a:ext cx="1241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pende del navegad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32000" y="1844640"/>
            <a:ext cx="5987880" cy="1224000"/>
            <a:chOff x="1332000" y="1844640"/>
            <a:chExt cx="5987880" cy="122400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332000" y="191772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2700360" y="1844640"/>
              <a:ext cx="461952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4581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pende del navegad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033640" y="1533600"/>
            <a:ext cx="5076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Agrega suscribir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con Bloglines a favorit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49400" y="1593720"/>
            <a:ext cx="7045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 en tu navegador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y suscribir con Blogline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66400" cy="276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2781000" cy="2504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5181840" cy="1276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708360" y="2852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ciona 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3708360" y="4941720"/>
            <a:ext cx="1467000" cy="3430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20000400">
            <a:off x="4858920" y="5084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br>
              <a:rPr sz="5400"/>
            </a:b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rápida en Firefox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r>
              <a:rPr b="1" i="1" lang="en-US" sz="4000" spc="-1" strike="noStrike">
                <a:solidFill>
                  <a:srgbClr val="c0c0c0"/>
                </a:solidFill>
                <a:latin typeface="Arial"/>
              </a:rPr>
              <a:t>Canales</a:t>
            </a:r>
            <a:br>
              <a:rPr sz="40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az clic sobre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2968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Arrastra el botón azul que aparece</a:t>
            </a:r>
            <a:br>
              <a:rPr sz="4000"/>
            </a:b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visible hasta la barra de herramienta de marcadore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403280" y="3500280"/>
            <a:ext cx="5949720" cy="1971720"/>
            <a:chOff x="1403280" y="3500280"/>
            <a:chExt cx="5949720" cy="197172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403280" y="3643200"/>
              <a:ext cx="116208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2771640" y="3500280"/>
              <a:ext cx="4581360" cy="19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c0c0"/>
                </a:solidFill>
                <a:latin typeface="Arial"/>
              </a:rPr>
              <a:t>Suscribiendo desde Firefox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143600" cy="1342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050920" y="4508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mplemente haz clic sobre Suscribir con Blogli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elecciona una opción </a:t>
            </a:r>
            <a:br>
              <a:rPr sz="4400"/>
            </a:b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haz clic en suscribi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181480" cy="1276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059280" y="2781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ciona 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1466640" cy="343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076720" y="4941720"/>
            <a:ext cx="71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Recibiendo las noticia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53520" cy="4867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00000" y="1987560"/>
            <a:ext cx="719280" cy="360360"/>
          </a:xfrm>
          <a:prstGeom prst="rect">
            <a:avLst/>
          </a:prstGeom>
          <a:noFill/>
          <a:ln w="2844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361800" cy="399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26920" y="2995560"/>
            <a:ext cx="1944720" cy="289080"/>
          </a:xfrm>
          <a:prstGeom prst="rect">
            <a:avLst/>
          </a:prstGeom>
          <a:gradFill rotWithShape="0">
            <a:gsLst>
              <a:gs pos="0">
                <a:srgbClr val="0099ff">
                  <a:alpha val="36078"/>
                </a:srgbClr>
              </a:gs>
              <a:gs pos="100000">
                <a:srgbClr val="5cbdfe">
                  <a:alpha val="34117"/>
                </a:srgbClr>
              </a:gs>
            </a:gsLst>
            <a:lin ang="5400000"/>
          </a:gra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771640" y="2779560"/>
            <a:ext cx="360360" cy="2160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1197000"/>
            <a:ext cx="2232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074"/>
              <a:gd name="adj5" fmla="val 113282"/>
              <a:gd name="adj6" fmla="val -29162"/>
            </a:avLst>
          </a:prstGeom>
          <a:gradFill rotWithShape="0">
            <a:gsLst>
              <a:gs pos="0">
                <a:srgbClr val="0099ff">
                  <a:alpha val="81176"/>
                </a:srgbClr>
              </a:gs>
              <a:gs pos="100000">
                <a:srgbClr val="64c0fe">
                  <a:alpha val="81176"/>
                </a:srgbClr>
              </a:gs>
            </a:gsLst>
            <a:lin ang="5400000"/>
          </a:gradFill>
          <a:ln w="1908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Selecci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Ca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3640" y="422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9365"/>
              <a:gd name="adj5" fmla="val -172134"/>
              <a:gd name="adj6" fmla="val -20231"/>
            </a:avLst>
          </a:prstGeom>
          <a:gradFill rotWithShape="0">
            <a:gsLst>
              <a:gs pos="0">
                <a:srgbClr val="0099ff">
                  <a:alpha val="81176"/>
                </a:srgbClr>
              </a:gs>
              <a:gs pos="100000">
                <a:srgbClr val="64c0fe">
                  <a:alpha val="81176"/>
                </a:srgbClr>
              </a:gs>
            </a:gsLst>
            <a:lin ang="5400000"/>
          </a:gradFill>
          <a:ln w="1908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Selecci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2000" y="2276640"/>
            <a:ext cx="5185080" cy="4032000"/>
          </a:xfrm>
          <a:prstGeom prst="rect">
            <a:avLst/>
          </a:prstGeom>
          <a:gradFill rotWithShape="0">
            <a:gsLst>
              <a:gs pos="0">
                <a:srgbClr val="0099ff">
                  <a:alpha val="51372"/>
                </a:srgbClr>
              </a:gs>
              <a:gs pos="100000">
                <a:srgbClr val="85cdfe">
                  <a:alpha val="3803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328464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VEDAD DEL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484280"/>
            <a:ext cx="9097920" cy="4511880"/>
            <a:chOff x="0" y="1484280"/>
            <a:chExt cx="9097920" cy="45118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0" y="1555920"/>
              <a:ext cx="9097920" cy="44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2736720" y="2419200"/>
              <a:ext cx="253044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0" y="1484280"/>
              <a:ext cx="9072720" cy="9367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72000" y="1555920"/>
              <a:ext cx="28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2b2b85"/>
                  </a:solidFill>
                  <a:latin typeface="Arial"/>
                </a:rPr>
                <a:t>Lector de </a:t>
              </a:r>
              <a:r>
                <a:rPr b="0" lang="es-ES" sz="3600" spc="-1" strike="noStrike">
                  <a:solidFill>
                    <a:srgbClr val="2b2b85"/>
                  </a:solidFill>
                  <a:latin typeface="Arial"/>
                </a:rPr>
                <a:t>Feed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73080" y="1555920"/>
              <a:ext cx="35701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04720" y="5516640"/>
              <a:ext cx="47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2b2b85"/>
                  </a:solidFill>
                  <a:latin typeface="Arial"/>
                </a:rPr>
                <a:t>Imagen de blogpocket modific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¿Para qué vale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suscribirte a los sitios web que te intere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eer lo que se haya publicado sin nave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guardar / publicar la inform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87640" y="3284640"/>
            <a:ext cx="235440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Regístrate en </a:t>
            </a:r>
            <a:br>
              <a:rPr sz="4000"/>
            </a:br>
            <a:r>
              <a:rPr b="0" lang="es-ES" sz="4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4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bloglines.com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3716280"/>
            <a:ext cx="1584360" cy="1657440"/>
          </a:xfrm>
          <a:prstGeom prst="rect">
            <a:avLst/>
          </a:prstGeom>
          <a:noFill/>
          <a:ln w="3816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618920" y="4797000"/>
            <a:ext cx="649080" cy="360360"/>
          </a:xfrm>
          <a:prstGeom prst="line">
            <a:avLst/>
          </a:prstGeom>
          <a:ln w="57240">
            <a:solidFill>
              <a:srgbClr val="a693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508464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50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930a"/>
                </a:solidFill>
                <a:latin typeface="Arial"/>
              </a:rPr>
              <a:t>idi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ompleta los datos del registr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896160" cy="4619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 rot="15522600">
            <a:off x="3100320" y="5116680"/>
            <a:ext cx="781200" cy="863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79640" y="5516640"/>
            <a:ext cx="1008000" cy="288720"/>
          </a:xfrm>
          <a:prstGeom prst="rect">
            <a:avLst/>
          </a:prstGeom>
          <a:noFill/>
          <a:ln w="3816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Vete a tu e-mail para confirmar el registr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34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Valida tu registro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197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Botones</a:t>
            </a:r>
            <a:br>
              <a:rPr sz="4400"/>
            </a:b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 Suscripción Fácil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r>
              <a:rPr b="1" i="1" lang="en-US" sz="4000" spc="-1" strike="noStrike">
                <a:solidFill>
                  <a:srgbClr val="c0c0c0"/>
                </a:solidFill>
                <a:latin typeface="Arial"/>
              </a:rPr>
              <a:t>Canales</a:t>
            </a:r>
            <a:br>
              <a:rPr sz="40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az clic sobre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2968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1:46:08Z</dcterms:created>
  <dc:creator> </dc:creator>
  <dc:description/>
  <dc:language>en-US</dc:language>
  <cp:lastModifiedBy> </cp:lastModifiedBy>
  <dcterms:modified xsi:type="dcterms:W3CDTF">2007-10-21T18:36:27Z</dcterms:modified>
  <cp:revision>5</cp:revision>
  <dc:subject/>
  <dc:title>Tutorial de Bloglines</dc:title>
</cp:coreProperties>
</file>