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163-2AB1-4963-9C05-3D072717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DCF-4DD0-4B81-A626-85AC82FF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EF5-4921-486A-A279-5E7B4CB7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6E9-21D0-4E4A-BD6B-7A972497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2F03-D527-47F1-81E6-89E4D1E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EF84-739D-4BD4-8525-701D352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53AC-59A3-442D-8785-7D3D410C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4372-DDBF-47DA-91AC-E89312EC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D7B-C8F4-437A-97F6-B576846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600B-EBB2-479D-8D0B-BD261A36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713C-915A-41CA-9F53-C34C34F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2FE-2C35-4632-A29C-970C2810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36D-63E7-4362-B789-01E0401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0E8C-4428-4F18-B015-3D4D7D5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0A6-91D1-43E8-96A1-5B4D331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C2B6-41B3-466B-8BBD-C3EAB811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A9BF-34D6-415A-BA6D-6B89F7F0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9D5-0F6D-4216-BA5F-0ECA64CD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BBB-6D54-48EB-8F00-73EFB96A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5EA-7D51-4991-B7EE-A5E6BE1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A75-DCA3-49F5-99D7-8176803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D25-7777-4C63-A4C2-2958E5A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32C-2C8A-4919-976F-ADCC878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D14-5331-4D6E-A18D-E631936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FC5-38AE-442B-8028-829D8B59D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4F8-CF3C-40C5-8733-2BA4D2234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barroso.com/" TargetMode="External"/><Relationship Id="rId2" Type="http://schemas.openxmlformats.org/officeDocument/2006/relationships/hyperlink" Target="http://www.lbarroso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4751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Tutorial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urdes Bar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lbarros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57012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067280" y="5373720"/>
            <a:ext cx="1241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32000" y="1844640"/>
            <a:ext cx="5987880" cy="1224000"/>
            <a:chOff x="1332000" y="1844640"/>
            <a:chExt cx="5987880" cy="12240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332000" y="191772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700360" y="1844640"/>
              <a:ext cx="461952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581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33640" y="1533600"/>
            <a:ext cx="5076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Agrega suscribi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con Bloglines a favorit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9400" y="1593720"/>
            <a:ext cx="7045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 en tu navegado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y suscribir con Bloglin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66400" cy="276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781000" cy="250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5181840" cy="127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08360" y="2852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467000" cy="343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20000400">
            <a:off x="4858920" y="5084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br>
              <a:rPr sz="5400"/>
            </a:b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rápida en Firefox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Arrastra el botón azul que aparece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isible hasta la barra de herramienta de marcador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03280" y="3500280"/>
            <a:ext cx="5949720" cy="1971720"/>
            <a:chOff x="1403280" y="3500280"/>
            <a:chExt cx="5949720" cy="1971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403280" y="3643200"/>
              <a:ext cx="11620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771640" y="3500280"/>
              <a:ext cx="4581360" cy="19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c0c0"/>
                </a:solidFill>
                <a:latin typeface="Arial"/>
              </a:rPr>
              <a:t>Suscribiendo desde Firefox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143600" cy="1342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0920" y="450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lemente haz clic sobre Suscribir con Blog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elecciona una opción 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az clic en suscribi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81480" cy="1276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59280" y="278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1466640" cy="343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cibiendo las notici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53520" cy="4867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1987560"/>
            <a:ext cx="719280" cy="360360"/>
          </a:xfrm>
          <a:prstGeom prst="rect">
            <a:avLst/>
          </a:prstGeom>
          <a:noFill/>
          <a:ln w="2844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361800" cy="399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26920" y="2995560"/>
            <a:ext cx="1944720" cy="289080"/>
          </a:xfrm>
          <a:prstGeom prst="rect">
            <a:avLst/>
          </a:prstGeom>
          <a:gradFill rotWithShape="0">
            <a:gsLst>
              <a:gs pos="0">
                <a:srgbClr val="0099ff">
                  <a:alpha val="36078"/>
                </a:srgbClr>
              </a:gs>
              <a:gs pos="100000">
                <a:srgbClr val="5cbdfe">
                  <a:alpha val="34117"/>
                </a:srgbClr>
              </a:gs>
            </a:gsLst>
            <a:lin ang="5400000"/>
          </a:gra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71640" y="2779560"/>
            <a:ext cx="360360" cy="2160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1197000"/>
            <a:ext cx="223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074"/>
              <a:gd name="adj5" fmla="val 113282"/>
              <a:gd name="adj6" fmla="val -29162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C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422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365"/>
              <a:gd name="adj5" fmla="val -172134"/>
              <a:gd name="adj6" fmla="val -20231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2276640"/>
            <a:ext cx="5185080" cy="4032000"/>
          </a:xfrm>
          <a:prstGeom prst="rect">
            <a:avLst/>
          </a:prstGeom>
          <a:gradFill rotWithShape="0">
            <a:gsLst>
              <a:gs pos="0">
                <a:srgbClr val="0099ff">
                  <a:alpha val="51372"/>
                </a:srgbClr>
              </a:gs>
              <a:gs pos="100000">
                <a:srgbClr val="85cdfe">
                  <a:alpha val="3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328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VEDAD DE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484280"/>
            <a:ext cx="9097920" cy="4511880"/>
            <a:chOff x="0" y="1484280"/>
            <a:chExt cx="9097920" cy="45118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1555920"/>
              <a:ext cx="9097920" cy="44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2736720" y="2419200"/>
              <a:ext cx="253044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1484280"/>
              <a:ext cx="9072720" cy="9367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2000" y="1555920"/>
              <a:ext cx="28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b2b85"/>
                  </a:solidFill>
                  <a:latin typeface="Arial"/>
                </a:rPr>
                <a:t>Lector de </a:t>
              </a:r>
              <a:r>
                <a:rPr b="0" lang="es-ES" sz="3600" spc="-1" strike="noStrike">
                  <a:solidFill>
                    <a:srgbClr val="2b2b85"/>
                  </a:solidFill>
                  <a:latin typeface="Arial"/>
                </a:rPr>
                <a:t>Feed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73080" y="1555920"/>
              <a:ext cx="3570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4720" y="5516640"/>
              <a:ext cx="47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b2b85"/>
                  </a:solidFill>
                  <a:latin typeface="Arial"/>
                </a:rPr>
                <a:t>Imagen de blogpocket modific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¿Para qué vale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suscribirte a los sitios web que te intere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eer lo que se haya publicado sin nav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guardar / publicar la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3544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Regístrate en </a:t>
            </a:r>
            <a:br>
              <a:rPr sz="4000"/>
            </a:b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bloglines.com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716280"/>
            <a:ext cx="1584360" cy="165744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18920" y="4797000"/>
            <a:ext cx="649080" cy="360360"/>
          </a:xfrm>
          <a:prstGeom prst="line">
            <a:avLst/>
          </a:prstGeom>
          <a:ln w="57240">
            <a:solidFill>
              <a:srgbClr val="a693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508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930a"/>
                </a:solidFill>
                <a:latin typeface="Arial"/>
              </a:rPr>
              <a:t>idi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ompleta los datos del registr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896160" cy="4619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15522600">
            <a:off x="3100320" y="5116680"/>
            <a:ext cx="781200" cy="86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9640" y="5516640"/>
            <a:ext cx="1008000" cy="28872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ete a tu e-mail para confirmar el registr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alida tu registro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197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Botones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 Suscripción Fáci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1:46:08Z</dcterms:created>
  <dc:creator> </dc:creator>
  <dc:description/>
  <dc:language>en-US</dc:language>
  <cp:lastModifiedBy> </cp:lastModifiedBy>
  <dcterms:modified xsi:type="dcterms:W3CDTF">2007-10-21T18:36:27Z</dcterms:modified>
  <cp:revision>5</cp:revision>
  <dc:subject/>
  <dc:title>Tutorial de Bloglines</dc:title>
</cp:coreProperties>
</file>