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4AAB-E15E-486D-BA75-DB422EDA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DDC1-B415-4790-8511-58B87AA7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39945-14A6-40DD-BBAB-2D1304BE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8C7B-2B06-446B-86CD-CD4DE7F7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9E59-39FF-4A9D-A281-49A4B664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F24C-0274-4E14-956D-6C89FF19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9C16-AA71-42BC-B29D-62238915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F5F8-9C80-489C-9A3B-905E03DC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BAB1-A8C2-4DBA-A366-AEC73B84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240F-200A-4AC9-9A64-416DF6EB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627A-310A-45D3-87B7-F8C2C1B2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2078-6A2B-4502-8258-6D30054B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C32C-F7CF-47B3-97A0-C327FF32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7BDC-6990-486C-9F08-9BDD0AFD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48EC-A858-4DA7-B780-6DD7A09C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1091-5893-42DC-846A-DEF0261C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CA52-4E7C-42B5-8302-DBAAF76D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30A3E-361A-4043-87E0-3E6175B0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1067E-26DF-4C2E-AC2D-FECF5E06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59489-6CF5-4F14-940F-E12C1EA5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F0B5-2DF2-4488-907B-C92F863B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27D00-B263-441E-BFF9-FE030D6D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15FDC-0B55-4E0B-9E22-B5F8CD4F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9E764-1759-4D4A-9532-E608D1C0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5DB9-E535-4301-A1EE-3447594B57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11B5-83BB-491C-B2A2-130D0DC1B3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barroso.com/" TargetMode="External"/><Relationship Id="rId3" Type="http://schemas.openxmlformats.org/officeDocument/2006/relationships/hyperlink" Target="http://www.lbarroso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del.icio.us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secure.del.icio.us/login" TargetMode="External"/><Relationship Id="rId2" Type="http://schemas.openxmlformats.org/officeDocument/2006/relationships/hyperlink" Target="https://secure.del.icio.us/login" TargetMode="External"/><Relationship Id="rId3" Type="http://schemas.openxmlformats.org/officeDocument/2006/relationships/hyperlink" Target="https://secure.del.icio.us/login" TargetMode="External"/><Relationship Id="rId4" Type="http://schemas.openxmlformats.org/officeDocument/2006/relationships/hyperlink" Target="https://secure.del.icio.us/login" TargetMode="External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del.icio.us/nombre" TargetMode="External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03640" y="1412640"/>
            <a:ext cx="4176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Del.icio.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35280" y="4005360"/>
            <a:ext cx="61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4292640"/>
            <a:ext cx="3529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Elegance"/>
              </a:rPr>
              <a:t>LOURDES BARRO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cc00"/>
                </a:solidFill>
                <a:uFillTx/>
                <a:latin typeface="Elegance"/>
                <a:hlinkClick r:id="rId2"/>
              </a:rPr>
              <a:t>http://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Elegance"/>
                <a:hlinkClick r:id="rId3"/>
              </a:rPr>
              <a:t>www.lbarros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Creative Commons License"/>
          <p:cNvPicPr/>
          <p:nvPr/>
        </p:nvPicPr>
        <p:blipFill>
          <a:blip r:embed="rId4"/>
          <a:stretch/>
        </p:blipFill>
        <p:spPr>
          <a:xfrm>
            <a:off x="4788000" y="5229360"/>
            <a:ext cx="1224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nsejos para un buen etiquetad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tilizar todas las etiquetas necesari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ás globalidad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tags in engli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ierto orden: de lo + general a lo + particul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tiqueta-acción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leer, hacer, copiar, escribir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tiqueta-contenid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articulo, portal, blog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t.-descripción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todo lo demás (o cas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s etiquetas son importantes: título tambié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5940360" y="6165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Fuente: Daniel Pr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 nuestros favorit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16672"/>
          <a:stretch/>
        </p:blipFill>
        <p:spPr>
          <a:xfrm>
            <a:off x="2411280" y="1844640"/>
            <a:ext cx="3168720" cy="1305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64000" y="3573360"/>
            <a:ext cx="2303280" cy="720720"/>
          </a:xfrm>
          <a:prstGeom prst="borderCallout1">
            <a:avLst>
              <a:gd name="adj1" fmla="val 18750"/>
              <a:gd name="adj2" fmla="val -8333"/>
              <a:gd name="adj3" fmla="val -62115"/>
              <a:gd name="adj4" fmla="val -21986"/>
            </a:avLst>
          </a:prstGeom>
          <a:gradFill rotWithShape="0">
            <a:gsLst>
              <a:gs pos="0">
                <a:srgbClr val="0099cc"/>
              </a:gs>
              <a:gs pos="100000">
                <a:srgbClr val="def1f7"/>
              </a:gs>
            </a:gsLst>
            <a:lin ang="5400000"/>
          </a:gradFill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Haz c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aqu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0" b="5266"/>
          <a:stretch/>
        </p:blipFill>
        <p:spPr>
          <a:xfrm>
            <a:off x="179280" y="1052640"/>
            <a:ext cx="8748720" cy="51721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2920680" y="476280"/>
            <a:ext cx="2257920" cy="660240"/>
            <a:chOff x="2920680" y="476280"/>
            <a:chExt cx="2257920" cy="660240"/>
          </a:xfrm>
        </p:grpSpPr>
        <p:sp>
          <p:nvSpPr>
            <p:cNvPr id="174" name=""/>
            <p:cNvSpPr/>
            <p:nvPr/>
          </p:nvSpPr>
          <p:spPr>
            <a:xfrm>
              <a:off x="2920680" y="476280"/>
              <a:ext cx="22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silla para etique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708000" y="776160"/>
              <a:ext cx="142920" cy="3603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791240" y="4089240"/>
            <a:ext cx="3957480" cy="1160640"/>
            <a:chOff x="4791240" y="4089240"/>
            <a:chExt cx="3957480" cy="1160640"/>
          </a:xfrm>
        </p:grpSpPr>
        <p:sp>
          <p:nvSpPr>
            <p:cNvPr id="177" name=""/>
            <p:cNvSpPr/>
            <p:nvPr/>
          </p:nvSpPr>
          <p:spPr>
            <a:xfrm>
              <a:off x="6443640" y="4089240"/>
              <a:ext cx="2305080" cy="115272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91240" y="4881600"/>
              <a:ext cx="17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rupo (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bundle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706480" y="3297240"/>
            <a:ext cx="3740760" cy="488880"/>
            <a:chOff x="2706480" y="3297240"/>
            <a:chExt cx="3740760" cy="488880"/>
          </a:xfrm>
        </p:grpSpPr>
        <p:sp>
          <p:nvSpPr>
            <p:cNvPr id="180" name=""/>
            <p:cNvSpPr/>
            <p:nvPr/>
          </p:nvSpPr>
          <p:spPr>
            <a:xfrm>
              <a:off x="2706480" y="3417840"/>
              <a:ext cx="374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rios que también lo guardar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492360" y="3297240"/>
              <a:ext cx="216000" cy="2160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01040" y="0"/>
            <a:ext cx="5290560" cy="1873080"/>
            <a:chOff x="401040" y="0"/>
            <a:chExt cx="5290560" cy="1873080"/>
          </a:xfrm>
        </p:grpSpPr>
        <p:sp>
          <p:nvSpPr>
            <p:cNvPr id="183" name=""/>
            <p:cNvSpPr/>
            <p:nvPr/>
          </p:nvSpPr>
          <p:spPr>
            <a:xfrm>
              <a:off x="401040" y="0"/>
              <a:ext cx="52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isma etiqueta: todos, populares y recomend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22560" y="360360"/>
              <a:ext cx="936720" cy="15127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584320" y="254160"/>
            <a:ext cx="2486520" cy="2311200"/>
            <a:chOff x="5584320" y="254160"/>
            <a:chExt cx="2486520" cy="2311200"/>
          </a:xfrm>
        </p:grpSpPr>
        <p:sp>
          <p:nvSpPr>
            <p:cNvPr id="186" name=""/>
            <p:cNvSpPr/>
            <p:nvPr/>
          </p:nvSpPr>
          <p:spPr>
            <a:xfrm>
              <a:off x="5584320" y="254160"/>
              <a:ext cx="24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tiquetas relacionad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00720" y="620640"/>
              <a:ext cx="863640" cy="19447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881040" y="549360"/>
            <a:ext cx="2043000" cy="2448000"/>
            <a:chOff x="6881040" y="549360"/>
            <a:chExt cx="2043000" cy="2448000"/>
          </a:xfrm>
        </p:grpSpPr>
        <p:sp>
          <p:nvSpPr>
            <p:cNvPr id="189" name=""/>
            <p:cNvSpPr/>
            <p:nvPr/>
          </p:nvSpPr>
          <p:spPr>
            <a:xfrm>
              <a:off x="7812000" y="2779560"/>
              <a:ext cx="216000" cy="21780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81040" y="549360"/>
              <a:ext cx="20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binar etique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80360" y="907920"/>
              <a:ext cx="504720" cy="18003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16320" y="6165720"/>
            <a:ext cx="5330160" cy="3682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iste un RSS para esta etiqueta al final de la pá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6308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Fuente: Daniel Pr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11280" y="2421000"/>
            <a:ext cx="1704960" cy="100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66" y="-22553"/>
                </a:moveTo>
                <a:lnTo>
                  <a:pt x="-966" y="19150"/>
                </a:lnTo>
              </a:path>
            </a:pathLst>
          </a:custGeom>
          <a:solidFill>
            <a:srgbClr val="e5e5ff"/>
          </a:solidFill>
          <a:ln w="28440">
            <a:solidFill>
              <a:srgbClr val="ff33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Entrar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En tu cu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De usu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Instalación de boton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edes hacerlo en todos los navegadores que dese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e5e5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ntra en </a:t>
            </a:r>
            <a:r>
              <a:rPr b="1" lang="es-ES" sz="4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del.icio.us/</a:t>
            </a:r>
            <a:br>
              <a:rPr sz="4400"/>
            </a:b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2. Selecciona regis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68360" y="2492280"/>
            <a:ext cx="8103960" cy="2846160"/>
            <a:chOff x="468360" y="2492280"/>
            <a:chExt cx="8103960" cy="2846160"/>
          </a:xfrm>
        </p:grpSpPr>
        <p:graphicFrame>
          <p:nvGraphicFramePr>
            <p:cNvPr id="199" name="ShockwaveFlash1"/>
            <p:cNvGraphicFramePr/>
            <p:nvPr/>
          </p:nvGraphicFramePr>
          <p:xfrm>
            <a:off x="468360" y="2492280"/>
            <a:ext cx="8103960" cy="2846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0" name="ShockwaveFlash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8360" y="2492280"/>
                      <a:ext cx="8103960" cy="284616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leta los datos de registr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172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stalar los botones en el navegado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0564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9804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05644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64468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5e5ff"/>
                </a:solidFill>
                <a:latin typeface="Garamond"/>
              </a:rPr>
              <a:t>¿Para qué sirve</a:t>
            </a:r>
            <a:br>
              <a:rPr sz="6000"/>
            </a:br>
            <a:r>
              <a:rPr b="1" lang="es-ES" sz="6000" spc="-1" strike="noStrike">
                <a:solidFill>
                  <a:srgbClr val="e5e5ff"/>
                </a:solidFill>
                <a:latin typeface="Garamond"/>
              </a:rPr>
              <a:t>del.icio.us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Continua la instalación haciedo</a:t>
            </a:r>
            <a:br>
              <a:rPr sz="4000"/>
            </a:b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clic en Nex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0754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us botones se han instal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3672000" cy="2784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427640" y="1557360"/>
            <a:ext cx="3600360" cy="1800360"/>
          </a:xfrm>
          <a:prstGeom prst="wedgeRoundRectCallout">
            <a:avLst>
              <a:gd name="adj1" fmla="val -64287"/>
              <a:gd name="adj2" fmla="val 29981"/>
              <a:gd name="adj3" fmla="val 16667"/>
            </a:avLst>
          </a:prstGeom>
          <a:solidFill>
            <a:srgbClr val="0099cc">
              <a:alpha val="6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19640" y="1773360"/>
            <a:ext cx="279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az clic en TAG para guardar una página en favor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1640" y="4005360"/>
            <a:ext cx="3529080" cy="1655640"/>
          </a:xfrm>
          <a:prstGeom prst="wedgeRoundRectCallout">
            <a:avLst>
              <a:gd name="adj1" fmla="val -4837"/>
              <a:gd name="adj2" fmla="val -108388"/>
              <a:gd name="adj3" fmla="val 16667"/>
            </a:avLst>
          </a:prstGeom>
          <a:solidFill>
            <a:srgbClr val="0099cc">
              <a:alpha val="8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8920" y="4508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az clic aquí para ver tus favori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908000" y="400536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500720" y="2133720"/>
            <a:ext cx="714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bre tu correo para completar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u registr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7475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iva tu registr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562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tra en tu cuent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256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Identifícate: entra en </a:t>
            </a:r>
            <a:r>
              <a:rPr b="1" i="1" lang="es-ES" sz="4000" spc="-1" strike="noStrike">
                <a:solidFill>
                  <a:srgbClr val="e5e5ff"/>
                </a:solidFill>
                <a:latin typeface="Garamond"/>
              </a:rPr>
              <a:t>del.icio.us </a:t>
            </a:r>
            <a:br>
              <a:rPr sz="4000"/>
            </a:b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selecciona </a:t>
            </a:r>
            <a:r>
              <a:rPr b="1" i="1" lang="es-ES" sz="4000" spc="-1" strike="noStrike">
                <a:solidFill>
                  <a:srgbClr val="e5e5ff"/>
                </a:solidFill>
                <a:latin typeface="Garamond"/>
              </a:rPr>
              <a:t>login</a:t>
            </a:r>
            <a:br>
              <a:rPr sz="4000"/>
            </a:br>
            <a:r>
              <a:rPr b="1" i="1" lang="es-ES" sz="4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</a:t>
            </a:r>
            <a:r>
              <a:rPr b="1" i="1" lang="es-ES" sz="4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del.icio.us</a:t>
            </a:r>
            <a:r>
              <a:rPr b="1" i="1" lang="es-ES" sz="4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/</a:t>
            </a:r>
            <a:r>
              <a:rPr b="1" i="1" lang="es-ES" sz="40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logi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900000" y="1989000"/>
            <a:ext cx="703764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imeros element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95280" y="1773360"/>
            <a:ext cx="8123400" cy="4133880"/>
            <a:chOff x="395280" y="1773360"/>
            <a:chExt cx="8123400" cy="413388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395280" y="1773360"/>
              <a:ext cx="812340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012000" y="3357720"/>
              <a:ext cx="1871640" cy="1008000"/>
            </a:xfrm>
            <a:prstGeom prst="wedgeRoundRectCallout">
              <a:avLst>
                <a:gd name="adj1" fmla="val 34310"/>
                <a:gd name="adj2" fmla="val 68268"/>
                <a:gd name="adj3" fmla="val 16667"/>
              </a:avLst>
            </a:prstGeom>
            <a:solidFill>
              <a:srgbClr val="0099cc">
                <a:alpha val="8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12000" y="3573360"/>
              <a:ext cx="18000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Rounded MT Bold"/>
                </a:rPr>
                <a:t>Selecciona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Rounded MT Bold"/>
                </a:rPr>
                <a:t> li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3640" y="3789360"/>
              <a:ext cx="1800360" cy="1150920"/>
            </a:xfrm>
            <a:prstGeom prst="wedgeRoundRectCallout">
              <a:avLst>
                <a:gd name="adj1" fmla="val 9083"/>
                <a:gd name="adj2" fmla="val -85310"/>
                <a:gd name="adj3" fmla="val 16667"/>
              </a:avLst>
            </a:prstGeom>
            <a:solidFill>
              <a:srgbClr val="0099cc">
                <a:alpha val="8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8000" y="400536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Rounded MT Bold"/>
                </a:rPr>
                <a:t>Nombre de usuari@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84720" y="1773360"/>
              <a:ext cx="2592360" cy="863640"/>
            </a:xfrm>
            <a:prstGeom prst="wedgeRoundRectCallout">
              <a:avLst>
                <a:gd name="adj1" fmla="val -75842"/>
                <a:gd name="adj2" fmla="val 4226"/>
                <a:gd name="adj3" fmla="val 16667"/>
              </a:avLst>
            </a:prstGeom>
            <a:solidFill>
              <a:srgbClr val="0099cc">
                <a:alpha val="8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0720" y="1844640"/>
              <a:ext cx="23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Tu  dirección en Intern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stalar botones en otros navegador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tra en tu cuenta: </a:t>
            </a:r>
            <a:r>
              <a:rPr b="0" lang="es-E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del.icio.us/nomb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dentifíc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lecciona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“help”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&gt;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“bookmarking”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y elige tu navegad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8075880" cy="1904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2987640" y="4869000"/>
            <a:ext cx="4314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Videotutoria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Haz clic sobre los enlaces para visualizar los videotutoriales elaborados por Fulgencio Mur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124000" y="2852280"/>
            <a:ext cx="4897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ementos principa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ómo buscar en el directorio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ómo buscar en el directorio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artiendo enla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207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legance"/>
              </a:rPr>
              <a:t>Guardar nuestros favoritos en Internet y poder acceder a ellos desde cualquier ordenador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916360" y="2276640"/>
            <a:ext cx="3333600" cy="3333600"/>
            <a:chOff x="2916360" y="2276640"/>
            <a:chExt cx="3333600" cy="333360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2916360" y="2276640"/>
              <a:ext cx="3333600" cy="33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4284720" y="3573360"/>
              <a:ext cx="792000" cy="79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211640" y="4149720"/>
            <a:ext cx="981000" cy="237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72360" y="3357720"/>
            <a:ext cx="136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 Cond"/>
              </a:rPr>
              <a:t>Tu c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1989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 Cond"/>
              </a:rPr>
              <a:t>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2997360"/>
            <a:ext cx="21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 Cond"/>
              </a:rPr>
              <a:t>Tus Conta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4797360"/>
            <a:ext cx="25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Demi Cond"/>
              </a:rPr>
              <a:t>Quien  qui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4221000"/>
            <a:ext cx="165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Demi Cond"/>
              </a:rPr>
              <a:t>Dónde qui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8135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ermite compartir los favoritos con otras personas por eso es un Marcador Soc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información NO se organiza en carpet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organiza mediante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etiqueta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tag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84360" y="2349360"/>
            <a:ext cx="1368000" cy="1514160"/>
            <a:chOff x="684360" y="2349360"/>
            <a:chExt cx="1368000" cy="1514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684360" y="2349360"/>
              <a:ext cx="1368000" cy="15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flipV="1">
              <a:off x="866880" y="2449080"/>
              <a:ext cx="1002600" cy="1209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6520" y="2549520"/>
              <a:ext cx="1002240" cy="1109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19280" y="4653000"/>
            <a:ext cx="4722840" cy="1812960"/>
            <a:chOff x="1619280" y="4653000"/>
            <a:chExt cx="4722840" cy="181296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3074040" y="3197880"/>
              <a:ext cx="1812960" cy="47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212000" y="4868640"/>
              <a:ext cx="180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Franklin Gothic Demi"/>
                </a:rPr>
                <a:t>Palabras  claves o descriptores del conteni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jemplo de etiquet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tintos usuar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318120" cy="1479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35640" y="30686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Heavy"/>
              </a:rPr>
              <a:t>www.aulablog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4824360" cy="1798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03640" y="3933720"/>
            <a:ext cx="568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¿Cómo funciona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l.icio.us se instala en la barra de herramientas de nuetro navegad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0" t="0" r="0" b="16672"/>
          <a:stretch/>
        </p:blipFill>
        <p:spPr>
          <a:xfrm>
            <a:off x="4500720" y="2852640"/>
            <a:ext cx="3168360" cy="1305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042920" y="2852640"/>
            <a:ext cx="2592360" cy="1314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16000" y="4869000"/>
            <a:ext cx="2303640" cy="720720"/>
          </a:xfrm>
          <a:prstGeom prst="borderCallout1">
            <a:avLst>
              <a:gd name="adj1" fmla="val 18750"/>
              <a:gd name="adj2" fmla="val -8333"/>
              <a:gd name="adj3" fmla="val -104847"/>
              <a:gd name="adj4" fmla="val 45074"/>
            </a:avLst>
          </a:prstGeom>
          <a:gradFill rotWithShape="0">
            <a:gsLst>
              <a:gs pos="0">
                <a:srgbClr val="0099cc"/>
              </a:gs>
              <a:gs pos="100000">
                <a:srgbClr val="def1f7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Marc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Como favor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4869000"/>
            <a:ext cx="2303280" cy="720720"/>
          </a:xfrm>
          <a:prstGeom prst="borderCallout1">
            <a:avLst>
              <a:gd name="adj1" fmla="val 18750"/>
              <a:gd name="adj2" fmla="val -8333"/>
              <a:gd name="adj3" fmla="val -124888"/>
              <a:gd name="adj4" fmla="val -4893"/>
            </a:avLst>
          </a:prstGeom>
          <a:gradFill rotWithShape="0">
            <a:gsLst>
              <a:gs pos="0">
                <a:srgbClr val="0099cc"/>
              </a:gs>
              <a:gs pos="100000">
                <a:srgbClr val="def1f7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Favor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2133360"/>
            <a:ext cx="734076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¿Cómo marcar un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favorito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7280" y="544464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lic sobre “TAG”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n el navegado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5229360"/>
            <a:ext cx="2592360" cy="1314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16000" y="177336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ill Sans Ultra Bold"/>
              </a:rPr>
              <a:t>Página que queremos guardar como favor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1915" r="0" b="28696"/>
          <a:stretch/>
        </p:blipFill>
        <p:spPr>
          <a:xfrm>
            <a:off x="1884240" y="909720"/>
            <a:ext cx="7151760" cy="3743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906560" y="5437080"/>
            <a:ext cx="7129440" cy="944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810560" y="3716280"/>
            <a:ext cx="1279440" cy="5202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parada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 espac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600" y="18900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ntalla que se muestra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ando hacemos click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908440" y="549360"/>
            <a:ext cx="295200" cy="2872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006800" y="182520"/>
            <a:ext cx="3771360" cy="2814840"/>
            <a:chOff x="4006800" y="182520"/>
            <a:chExt cx="3771360" cy="2814840"/>
          </a:xfrm>
        </p:grpSpPr>
        <p:sp>
          <p:nvSpPr>
            <p:cNvPr id="148" name=""/>
            <p:cNvSpPr/>
            <p:nvPr/>
          </p:nvSpPr>
          <p:spPr>
            <a:xfrm>
              <a:off x="4006800" y="182520"/>
              <a:ext cx="37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o seleccionado (antes de TAG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579920" y="549360"/>
              <a:ext cx="279360" cy="6476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48360" y="549360"/>
              <a:ext cx="0" cy="24480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02840" y="4508640"/>
            <a:ext cx="6328440" cy="512640"/>
            <a:chOff x="402840" y="4508640"/>
            <a:chExt cx="6328440" cy="512640"/>
          </a:xfrm>
        </p:grpSpPr>
        <p:sp>
          <p:nvSpPr>
            <p:cNvPr id="152" name=""/>
            <p:cNvSpPr/>
            <p:nvPr/>
          </p:nvSpPr>
          <p:spPr>
            <a:xfrm>
              <a:off x="402840" y="4653000"/>
              <a:ext cx="63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Etiquetas ya asociadas a la dirección (click para seleccionar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995640" y="4508640"/>
              <a:ext cx="360360" cy="217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15240" y="6381720"/>
            <a:ext cx="4029840" cy="368280"/>
            <a:chOff x="615240" y="6381720"/>
            <a:chExt cx="4029840" cy="368280"/>
          </a:xfrm>
        </p:grpSpPr>
        <p:sp>
          <p:nvSpPr>
            <p:cNvPr id="155" name=""/>
            <p:cNvSpPr/>
            <p:nvPr/>
          </p:nvSpPr>
          <p:spPr>
            <a:xfrm>
              <a:off x="615240" y="6381720"/>
              <a:ext cx="37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ara enviar enlace a mis contac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284720" y="6381720"/>
              <a:ext cx="360360" cy="217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30480" y="5078520"/>
            <a:ext cx="5632200" cy="511200"/>
            <a:chOff x="330480" y="5078520"/>
            <a:chExt cx="5632200" cy="511200"/>
          </a:xfrm>
        </p:grpSpPr>
        <p:sp>
          <p:nvSpPr>
            <p:cNvPr id="158" name=""/>
            <p:cNvSpPr/>
            <p:nvPr/>
          </p:nvSpPr>
          <p:spPr>
            <a:xfrm>
              <a:off x="330480" y="5078520"/>
              <a:ext cx="563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comendaciones en base a mis etiquetas exist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7280" y="5445000"/>
              <a:ext cx="433440" cy="1447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50920" y="1628640"/>
            <a:ext cx="2233440" cy="1944720"/>
            <a:chOff x="250920" y="1628640"/>
            <a:chExt cx="2233440" cy="1944720"/>
          </a:xfrm>
        </p:grpSpPr>
        <p:sp>
          <p:nvSpPr>
            <p:cNvPr id="161" name=""/>
            <p:cNvSpPr/>
            <p:nvPr/>
          </p:nvSpPr>
          <p:spPr>
            <a:xfrm>
              <a:off x="250920" y="1628640"/>
              <a:ext cx="15843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tiquetas.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 escribir nos sugiere en base a las nuestr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19280" y="2421000"/>
              <a:ext cx="865080" cy="11523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8000" y="2863800"/>
            <a:ext cx="1584360" cy="1067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tiqueta de 2 palabras o más: espacios por + ó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32360" y="649116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0360" y="64911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Fuente: Daniel Pr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7:42:59Z</dcterms:created>
  <dc:creator> </dc:creator>
  <dc:description/>
  <dc:language>en-US</dc:language>
  <cp:lastModifiedBy> </cp:lastModifiedBy>
  <dcterms:modified xsi:type="dcterms:W3CDTF">2007-10-20T21:34:34Z</dcterms:modified>
  <cp:revision>18</cp:revision>
  <dc:subject/>
  <dc:title>Entra en http://del.icio.us/ 2. Selecciona register</dc:title>
</cp:coreProperties>
</file>