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631C-4B57-4354-8C26-98E42710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3AB3-1B37-4FC8-AB22-033AF7B9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3046-0D03-4E1E-8DC0-E85C5261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7F39-3BAB-4EEE-BFA1-C9D5B4AF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4677-6567-45E4-9C1C-66BD6C76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7B26-8D0F-4FED-9677-108C81CC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D751-B625-42D6-A073-8F41C788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B9F-4572-45AC-A6BC-FFE1908A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4223-50AB-4B71-8CD8-FFA3E547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7312-0C68-4B7B-8AC1-C3829C81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0BB8-22D2-4A82-8AD8-CFA922B8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74FB-613F-4A39-BEAF-035C679B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9220-CC67-4A2E-877D-963C377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4986-4DAD-4139-BB75-678998CE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F868-C38D-49E1-9975-6344341C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1CA1-8DF4-4A3B-B1D6-7ED6BF88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8AC7-E641-45DB-ACAD-E1C6EA55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1194-4167-4B8A-998C-EE061C51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1B47-9917-41D2-BD6D-5FB90471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6DED-191E-4E32-8BD8-C793D181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BA99-069B-4710-BE85-BA25D418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1F4C-E30D-4893-8544-EE7AC4FD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7FC4-2201-4FBA-A2A8-00DC563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21DF-C20F-4E5D-9349-95E14C82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C7E5-1E68-4CF9-9729-36D58EBAFA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08DC-C02D-4B53-992E-A85EDD0C85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barroso.com/" TargetMode="External"/><Relationship Id="rId3" Type="http://schemas.openxmlformats.org/officeDocument/2006/relationships/hyperlink" Target="http://www.lbarroso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el.icio.us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secure.del.icio.us/login" TargetMode="External"/><Relationship Id="rId2" Type="http://schemas.openxmlformats.org/officeDocument/2006/relationships/hyperlink" Target="https://secure.del.icio.us/login" TargetMode="External"/><Relationship Id="rId3" Type="http://schemas.openxmlformats.org/officeDocument/2006/relationships/hyperlink" Target="https://secure.del.icio.us/login" TargetMode="External"/><Relationship Id="rId4" Type="http://schemas.openxmlformats.org/officeDocument/2006/relationships/hyperlink" Target="https://secure.del.icio.us/login" TargetMode="External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el.icio.us/nombre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3640" y="141264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Del.icio.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400536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292640"/>
            <a:ext cx="352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Elegance"/>
              </a:rPr>
              <a:t>LOURDES BARR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cc00"/>
                </a:solidFill>
                <a:uFillTx/>
                <a:latin typeface="Elegance"/>
                <a:hlinkClick r:id="rId2"/>
              </a:rPr>
              <a:t>http://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Elegance"/>
                <a:hlinkClick r:id="rId3"/>
              </a:rPr>
              <a:t>www.lbarros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Creative Commons License"/>
          <p:cNvPicPr/>
          <p:nvPr/>
        </p:nvPicPr>
        <p:blipFill>
          <a:blip r:embed="rId4"/>
          <a:stretch/>
        </p:blipFill>
        <p:spPr>
          <a:xfrm>
            <a:off x="4788000" y="5229360"/>
            <a:ext cx="1224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sejos para un buen etiquetad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tilizar todas las etiquetas necesari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ás globalidad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tags in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ierto orden: de lo + general a lo + particul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iqueta-acció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leer, hacer, copiar, escribir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iqueta-conteni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articulo, portal, blog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.-descripció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todo lo demás (o ca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s etiquetas son importantes: título tambié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94036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 nuestros favori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16672"/>
          <a:stretch/>
        </p:blipFill>
        <p:spPr>
          <a:xfrm>
            <a:off x="2411280" y="1844640"/>
            <a:ext cx="3168720" cy="130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64000" y="3573360"/>
            <a:ext cx="2303280" cy="720720"/>
          </a:xfrm>
          <a:prstGeom prst="borderCallout1">
            <a:avLst>
              <a:gd name="adj1" fmla="val 18750"/>
              <a:gd name="adj2" fmla="val -8333"/>
              <a:gd name="adj3" fmla="val -62115"/>
              <a:gd name="adj4" fmla="val -21986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Haz c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aqu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0" b="5266"/>
          <a:stretch/>
        </p:blipFill>
        <p:spPr>
          <a:xfrm>
            <a:off x="179280" y="1052640"/>
            <a:ext cx="8748720" cy="5172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2920680" y="476280"/>
            <a:ext cx="2257920" cy="660240"/>
            <a:chOff x="2920680" y="476280"/>
            <a:chExt cx="2257920" cy="660240"/>
          </a:xfrm>
        </p:grpSpPr>
        <p:sp>
          <p:nvSpPr>
            <p:cNvPr id="174" name=""/>
            <p:cNvSpPr/>
            <p:nvPr/>
          </p:nvSpPr>
          <p:spPr>
            <a:xfrm>
              <a:off x="2920680" y="47628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silla para etiqu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708000" y="776160"/>
              <a:ext cx="142920" cy="360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91240" y="4089240"/>
            <a:ext cx="3957480" cy="1160640"/>
            <a:chOff x="4791240" y="4089240"/>
            <a:chExt cx="3957480" cy="1160640"/>
          </a:xfrm>
        </p:grpSpPr>
        <p:sp>
          <p:nvSpPr>
            <p:cNvPr id="177" name=""/>
            <p:cNvSpPr/>
            <p:nvPr/>
          </p:nvSpPr>
          <p:spPr>
            <a:xfrm>
              <a:off x="6443640" y="4089240"/>
              <a:ext cx="2305080" cy="115272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91240" y="4881600"/>
              <a:ext cx="17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rupo (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bundle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06480" y="3297240"/>
            <a:ext cx="3740760" cy="488880"/>
            <a:chOff x="2706480" y="3297240"/>
            <a:chExt cx="3740760" cy="488880"/>
          </a:xfrm>
        </p:grpSpPr>
        <p:sp>
          <p:nvSpPr>
            <p:cNvPr id="180" name=""/>
            <p:cNvSpPr/>
            <p:nvPr/>
          </p:nvSpPr>
          <p:spPr>
            <a:xfrm>
              <a:off x="2706480" y="3417840"/>
              <a:ext cx="37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rios que también lo guardar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492360" y="3297240"/>
              <a:ext cx="216000" cy="216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1040" y="0"/>
            <a:ext cx="5290560" cy="1873080"/>
            <a:chOff x="401040" y="0"/>
            <a:chExt cx="5290560" cy="1873080"/>
          </a:xfrm>
        </p:grpSpPr>
        <p:sp>
          <p:nvSpPr>
            <p:cNvPr id="183" name=""/>
            <p:cNvSpPr/>
            <p:nvPr/>
          </p:nvSpPr>
          <p:spPr>
            <a:xfrm>
              <a:off x="401040" y="0"/>
              <a:ext cx="52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sma etiqueta: todos, populares y recomend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22560" y="360360"/>
              <a:ext cx="936720" cy="1512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584320" y="254160"/>
            <a:ext cx="2486520" cy="2311200"/>
            <a:chOff x="5584320" y="254160"/>
            <a:chExt cx="2486520" cy="2311200"/>
          </a:xfrm>
        </p:grpSpPr>
        <p:sp>
          <p:nvSpPr>
            <p:cNvPr id="186" name=""/>
            <p:cNvSpPr/>
            <p:nvPr/>
          </p:nvSpPr>
          <p:spPr>
            <a:xfrm>
              <a:off x="5584320" y="254160"/>
              <a:ext cx="24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tiquetas relaciona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00720" y="620640"/>
              <a:ext cx="863640" cy="194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881040" y="549360"/>
            <a:ext cx="2043000" cy="2448000"/>
            <a:chOff x="6881040" y="549360"/>
            <a:chExt cx="2043000" cy="2448000"/>
          </a:xfrm>
        </p:grpSpPr>
        <p:sp>
          <p:nvSpPr>
            <p:cNvPr id="189" name=""/>
            <p:cNvSpPr/>
            <p:nvPr/>
          </p:nvSpPr>
          <p:spPr>
            <a:xfrm>
              <a:off x="7812000" y="2779560"/>
              <a:ext cx="216000" cy="21780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81040" y="54936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binar etiqu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80360" y="907920"/>
              <a:ext cx="504720" cy="1800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16320" y="6165720"/>
            <a:ext cx="533016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e un RSS para esta etiqueta al final de la pá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63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1280" y="2421000"/>
            <a:ext cx="1704960" cy="10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66" y="-22553"/>
                </a:moveTo>
                <a:lnTo>
                  <a:pt x="-966" y="19150"/>
                </a:lnTo>
              </a:path>
            </a:pathLst>
          </a:custGeom>
          <a:solidFill>
            <a:srgbClr val="e5e5ff"/>
          </a:solidFill>
          <a:ln w="28440">
            <a:solidFill>
              <a:srgbClr val="ff33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Entra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En tu cu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De usu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nstalación de boton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edes hacerlo en todos los navegadores que des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5e5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ntra en </a:t>
            </a:r>
            <a:r>
              <a:rPr b="1" lang="es-ES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el.icio.us/</a:t>
            </a:r>
            <a:br>
              <a:rPr sz="4400"/>
            </a:b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2. Selecciona regis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68360" y="2492280"/>
            <a:ext cx="8103960" cy="2846160"/>
            <a:chOff x="468360" y="2492280"/>
            <a:chExt cx="8103960" cy="2846160"/>
          </a:xfrm>
        </p:grpSpPr>
        <p:graphicFrame>
          <p:nvGraphicFramePr>
            <p:cNvPr id="199" name="ShockwaveFlash1"/>
            <p:cNvGraphicFramePr/>
            <p:nvPr/>
          </p:nvGraphicFramePr>
          <p:xfrm>
            <a:off x="468360" y="2492280"/>
            <a:ext cx="8103960" cy="2846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0" name="ShockwaveFlash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8360" y="2492280"/>
                      <a:ext cx="8103960" cy="28461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eta los datos de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72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alar los botones en el navegado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56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804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0564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4468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¿Para qué sirve</a:t>
            </a:r>
            <a:br>
              <a:rPr sz="6000"/>
            </a:b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del.icio.us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ontinua la instalación haciedo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lic en Nex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0754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us botones se han instal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3672000" cy="2784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27640" y="1557360"/>
            <a:ext cx="3600360" cy="1800360"/>
          </a:xfrm>
          <a:prstGeom prst="wedgeRoundRectCallout">
            <a:avLst>
              <a:gd name="adj1" fmla="val -64287"/>
              <a:gd name="adj2" fmla="val 29981"/>
              <a:gd name="adj3" fmla="val 16667"/>
            </a:avLst>
          </a:prstGeom>
          <a:solidFill>
            <a:srgbClr val="0099cc">
              <a:alpha val="6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1773360"/>
            <a:ext cx="279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z clic en TAG para guardar una página en favo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4005360"/>
            <a:ext cx="3529080" cy="1655640"/>
          </a:xfrm>
          <a:prstGeom prst="wedgeRoundRectCallout">
            <a:avLst>
              <a:gd name="adj1" fmla="val -4837"/>
              <a:gd name="adj2" fmla="val -108388"/>
              <a:gd name="adj3" fmla="val 16667"/>
            </a:avLst>
          </a:prstGeom>
          <a:solidFill>
            <a:srgbClr val="0099cc">
              <a:alpha val="8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450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z clic aquí para ver tus favori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908000" y="400536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500720" y="2133720"/>
            <a:ext cx="714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re tu correo para completa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u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47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va tu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562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tra en tu cuen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256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Identifícate: entra en </a:t>
            </a:r>
            <a:r>
              <a:rPr b="1" i="1" lang="es-ES" sz="4000" spc="-1" strike="noStrike">
                <a:solidFill>
                  <a:srgbClr val="e5e5ff"/>
                </a:solidFill>
                <a:latin typeface="Garamond"/>
              </a:rPr>
              <a:t>del.icio.us 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selecciona </a:t>
            </a:r>
            <a:r>
              <a:rPr b="1" i="1" lang="es-ES" sz="4000" spc="-1" strike="noStrike">
                <a:solidFill>
                  <a:srgbClr val="e5e5ff"/>
                </a:solidFill>
                <a:latin typeface="Garamond"/>
              </a:rPr>
              <a:t>login</a:t>
            </a:r>
            <a:br>
              <a:rPr sz="4000"/>
            </a:b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el.icio.us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/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log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00000" y="1989000"/>
            <a:ext cx="70376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meros elemen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5280" y="1773360"/>
            <a:ext cx="8123400" cy="4133880"/>
            <a:chOff x="395280" y="1773360"/>
            <a:chExt cx="8123400" cy="41338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395280" y="1773360"/>
              <a:ext cx="81234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012000" y="3357720"/>
              <a:ext cx="1871640" cy="1008000"/>
            </a:xfrm>
            <a:prstGeom prst="wedgeRoundRectCallout">
              <a:avLst>
                <a:gd name="adj1" fmla="val 34310"/>
                <a:gd name="adj2" fmla="val 68268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12000" y="3573360"/>
              <a:ext cx="1800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Rounded MT Bold"/>
                </a:rPr>
                <a:t>Seleccion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Rounded MT Bold"/>
                </a:rPr>
                <a:t> li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3640" y="3789360"/>
              <a:ext cx="1800360" cy="1150920"/>
            </a:xfrm>
            <a:prstGeom prst="wedgeRoundRectCallout">
              <a:avLst>
                <a:gd name="adj1" fmla="val 9083"/>
                <a:gd name="adj2" fmla="val -85310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8000" y="40053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Rounded MT Bold"/>
                </a:rPr>
                <a:t>Nombre de usuari@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84720" y="1773360"/>
              <a:ext cx="2592360" cy="863640"/>
            </a:xfrm>
            <a:prstGeom prst="wedgeRoundRectCallout">
              <a:avLst>
                <a:gd name="adj1" fmla="val -75842"/>
                <a:gd name="adj2" fmla="val 4226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0720" y="184464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Tu  dirección en Intern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stalar botones en otros navegador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tra en tu cuenta: </a:t>
            </a:r>
            <a:r>
              <a:rPr b="0" lang="es-E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el.icio.us/nomb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dentifíc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leccion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help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&gt;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bookmarking”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 elige tu navegad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8075880" cy="1904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987640" y="4869000"/>
            <a:ext cx="4314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Videotutoria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az clic sobre los enlaces para visualizar los videotutoriales elaborados por Fulgencio Mur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124000" y="2852280"/>
            <a:ext cx="4897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mentos princip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ómo buscar en el directori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ómo buscar en el directorio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tiendo enl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207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legance"/>
              </a:rPr>
              <a:t>Guardar nuestros favoritos en Internet y poder acceder a ellos desde cualquier ordenador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16360" y="2276640"/>
            <a:ext cx="3333600" cy="3333600"/>
            <a:chOff x="2916360" y="2276640"/>
            <a:chExt cx="3333600" cy="33336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916360" y="2276640"/>
              <a:ext cx="333360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284720" y="357336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11640" y="4149720"/>
            <a:ext cx="981000" cy="237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3357720"/>
            <a:ext cx="136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 Cond"/>
              </a:rPr>
              <a:t>Tu c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1989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 Cond"/>
              </a:rPr>
              <a:t>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2997360"/>
            <a:ext cx="21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 Cond"/>
              </a:rPr>
              <a:t>Tus Conta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4797360"/>
            <a:ext cx="25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 Cond"/>
              </a:rPr>
              <a:t>Quien  qui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221000"/>
            <a:ext cx="16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 Cond"/>
              </a:rPr>
              <a:t>Dónde qui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813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ompartir los favoritos con otras personas por eso es un Marcador Soc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información NO se organiza en carpe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organiza mediante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etiquet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tag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84360" y="2349360"/>
            <a:ext cx="1368000" cy="1514160"/>
            <a:chOff x="684360" y="2349360"/>
            <a:chExt cx="1368000" cy="1514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684360" y="2349360"/>
              <a:ext cx="136800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V="1">
              <a:off x="866880" y="2449080"/>
              <a:ext cx="1002600" cy="1209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520" y="2549520"/>
              <a:ext cx="1002240" cy="1109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19280" y="4653000"/>
            <a:ext cx="4722840" cy="1812960"/>
            <a:chOff x="1619280" y="4653000"/>
            <a:chExt cx="4722840" cy="18129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3074040" y="3197880"/>
              <a:ext cx="1812960" cy="47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12000" y="4868640"/>
              <a:ext cx="180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Franklin Gothic Demi"/>
                </a:rPr>
                <a:t>Palabras  claves o descriptores del conten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jemplo de etiquet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intos usua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318120" cy="1479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3068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Heavy"/>
              </a:rPr>
              <a:t>www.aulablog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4824360" cy="1798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03640" y="3933720"/>
            <a:ext cx="568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¿Cómo funciona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l.icio.us se instala en la barra de herramientas de nuetro navegad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0" r="0" b="16672"/>
          <a:stretch/>
        </p:blipFill>
        <p:spPr>
          <a:xfrm>
            <a:off x="4500720" y="2852640"/>
            <a:ext cx="3168360" cy="1305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2592360" cy="1314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6000" y="4869000"/>
            <a:ext cx="2303640" cy="720720"/>
          </a:xfrm>
          <a:prstGeom prst="borderCallout1">
            <a:avLst>
              <a:gd name="adj1" fmla="val 18750"/>
              <a:gd name="adj2" fmla="val -8333"/>
              <a:gd name="adj3" fmla="val -104847"/>
              <a:gd name="adj4" fmla="val 45074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Mar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Como favor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4869000"/>
            <a:ext cx="2303280" cy="720720"/>
          </a:xfrm>
          <a:prstGeom prst="borderCallout1">
            <a:avLst>
              <a:gd name="adj1" fmla="val 18750"/>
              <a:gd name="adj2" fmla="val -8333"/>
              <a:gd name="adj3" fmla="val -124888"/>
              <a:gd name="adj4" fmla="val -4893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Favor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734076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¿Cómo marcar u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avorito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7280" y="544464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lic sobre “TAG”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n el navegado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2592360" cy="131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16000" y="177336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ill Sans Ultra Bold"/>
              </a:rPr>
              <a:t>Página que queremos guardar como favor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1915" r="0" b="28696"/>
          <a:stretch/>
        </p:blipFill>
        <p:spPr>
          <a:xfrm>
            <a:off x="1884240" y="909720"/>
            <a:ext cx="7151760" cy="374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6560" y="5437080"/>
            <a:ext cx="7129440" cy="94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810560" y="3716280"/>
            <a:ext cx="1279440" cy="520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parada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espac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600" y="18900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ntalla que se muestra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hacemos click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908440" y="549360"/>
            <a:ext cx="295200" cy="2872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006800" y="182520"/>
            <a:ext cx="3771360" cy="2814840"/>
            <a:chOff x="4006800" y="182520"/>
            <a:chExt cx="3771360" cy="2814840"/>
          </a:xfrm>
        </p:grpSpPr>
        <p:sp>
          <p:nvSpPr>
            <p:cNvPr id="148" name=""/>
            <p:cNvSpPr/>
            <p:nvPr/>
          </p:nvSpPr>
          <p:spPr>
            <a:xfrm>
              <a:off x="4006800" y="182520"/>
              <a:ext cx="37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o seleccionado (antes de TA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579920" y="549360"/>
              <a:ext cx="279360" cy="647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8360" y="549360"/>
              <a:ext cx="0" cy="2448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2840" y="4508640"/>
            <a:ext cx="6328440" cy="512640"/>
            <a:chOff x="402840" y="4508640"/>
            <a:chExt cx="6328440" cy="512640"/>
          </a:xfrm>
        </p:grpSpPr>
        <p:sp>
          <p:nvSpPr>
            <p:cNvPr id="152" name=""/>
            <p:cNvSpPr/>
            <p:nvPr/>
          </p:nvSpPr>
          <p:spPr>
            <a:xfrm>
              <a:off x="402840" y="4653000"/>
              <a:ext cx="63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tiquetas ya asociadas a la dirección (click para selecciona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5640" y="4508640"/>
              <a:ext cx="360360" cy="217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15240" y="6381720"/>
            <a:ext cx="4029840" cy="368280"/>
            <a:chOff x="615240" y="6381720"/>
            <a:chExt cx="4029840" cy="368280"/>
          </a:xfrm>
        </p:grpSpPr>
        <p:sp>
          <p:nvSpPr>
            <p:cNvPr id="155" name=""/>
            <p:cNvSpPr/>
            <p:nvPr/>
          </p:nvSpPr>
          <p:spPr>
            <a:xfrm>
              <a:off x="615240" y="6381720"/>
              <a:ext cx="37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a enviar enlace a mis contac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284720" y="6381720"/>
              <a:ext cx="360360" cy="217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30480" y="5078520"/>
            <a:ext cx="5632200" cy="511200"/>
            <a:chOff x="330480" y="5078520"/>
            <a:chExt cx="5632200" cy="511200"/>
          </a:xfrm>
        </p:grpSpPr>
        <p:sp>
          <p:nvSpPr>
            <p:cNvPr id="158" name=""/>
            <p:cNvSpPr/>
            <p:nvPr/>
          </p:nvSpPr>
          <p:spPr>
            <a:xfrm>
              <a:off x="330480" y="5078520"/>
              <a:ext cx="56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omendaciones en base a mis etiquetas exist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5445000"/>
              <a:ext cx="433440" cy="14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0920" y="1628640"/>
            <a:ext cx="2233440" cy="1944720"/>
            <a:chOff x="250920" y="1628640"/>
            <a:chExt cx="2233440" cy="1944720"/>
          </a:xfrm>
        </p:grpSpPr>
        <p:sp>
          <p:nvSpPr>
            <p:cNvPr id="161" name=""/>
            <p:cNvSpPr/>
            <p:nvPr/>
          </p:nvSpPr>
          <p:spPr>
            <a:xfrm>
              <a:off x="250920" y="1628640"/>
              <a:ext cx="1584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tiquetas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 escribir nos sugiere en base a las nuestr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19280" y="2421000"/>
              <a:ext cx="865080" cy="1152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8000" y="2863800"/>
            <a:ext cx="1584360" cy="1067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iqueta de 2 palabras o más: espacios por + ó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64911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64911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42:59Z</dcterms:created>
  <dc:creator> </dc:creator>
  <dc:description/>
  <dc:language>en-US</dc:language>
  <cp:lastModifiedBy> </cp:lastModifiedBy>
  <dcterms:modified xsi:type="dcterms:W3CDTF">2007-10-20T21:34:34Z</dcterms:modified>
  <cp:revision>18</cp:revision>
  <dc:subject/>
  <dc:title>Entra en http://del.icio.us/ 2. Selecciona register</dc:title>
</cp:coreProperties>
</file>