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CDE-F032-4684-86F0-AA207AB3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C41-0B7C-4B1A-844E-61426D49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32F6-26E7-458C-84E5-71AD2CB2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0EB4-7598-466A-8B66-1F9BFA5D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B45A-8606-4D74-9D3D-4DFDACA9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61A-A782-4FEC-8DA0-DF739647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19F-C422-4AC0-ACB2-16EC0E59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26B-CA29-4866-8845-61E3F732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2CE-D172-4FA6-8EAD-618C8D0D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34D-8A0A-4DE4-9A94-3536EAFE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314C-7DD8-4F60-BDCE-F0884CEE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27F-0A7E-4BE3-AC9F-F3FF938C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2E8D-DF93-4728-9577-77B593237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3213000"/>
            <a:ext cx="7161120" cy="3095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3619440" cy="1123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48000" y="2421000"/>
            <a:ext cx="23814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448000" cy="175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1200240" cy="523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182680" y="2238480"/>
            <a:ext cx="67820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67626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1480" y="1330200"/>
            <a:ext cx="72025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00240" y="990720"/>
            <a:ext cx="6743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90520" y="2457360"/>
            <a:ext cx="67629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76400" y="528480"/>
            <a:ext cx="699120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9:25:57Z</dcterms:created>
  <dc:creator>miguel_angel</dc:creator>
  <dc:description/>
  <dc:language>en-US</dc:language>
  <cp:lastModifiedBy>miguel_angel</cp:lastModifiedBy>
  <dcterms:modified xsi:type="dcterms:W3CDTF">2007-11-10T20:34:51Z</dcterms:modified>
  <cp:revision>4</cp:revision>
  <dc:subject/>
  <dc:title>Diapositiva 1</dc:title>
</cp:coreProperties>
</file>