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0705-7CA3-4D3F-998B-2BD0A91D1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28E0-F7CD-492B-9AE4-6EBC8711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A3DB-2EB7-488D-A878-90BBE28E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0208-D4E5-4231-949A-294C1D694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519C-D4EF-43C5-84CF-DBFFCC23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5823-F9F5-4485-8F25-F7E0FE2A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2AEF-C453-421C-B6E9-9E3703D0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1A92-3BAF-460D-ABF1-1DEE5862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E9F8-9296-47FA-9C7A-A97D0877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D4AE-3837-476F-A945-85A0F6B6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E7BE-0F00-4768-9BEF-5821E9CE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455B-92CB-41EA-9071-0C77946D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9FCB-D569-4275-91D3-4215695A2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42920" y="3213000"/>
            <a:ext cx="7161120" cy="3095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700360" y="981000"/>
            <a:ext cx="3619440" cy="1123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348000" y="2421000"/>
            <a:ext cx="238140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2448000" cy="1752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740720" y="189000"/>
            <a:ext cx="1200240" cy="523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182680" y="2238480"/>
            <a:ext cx="67820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676260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41480" y="1330200"/>
            <a:ext cx="72025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00240" y="990720"/>
            <a:ext cx="6743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90520" y="2457360"/>
            <a:ext cx="67629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76400" y="528480"/>
            <a:ext cx="6991200" cy="58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9:25:57Z</dcterms:created>
  <dc:creator>miguel_angel</dc:creator>
  <dc:description/>
  <dc:language>en-US</dc:language>
  <cp:lastModifiedBy>miguel_angel</cp:lastModifiedBy>
  <dcterms:modified xsi:type="dcterms:W3CDTF">2007-11-10T20:34:51Z</dcterms:modified>
  <cp:revision>4</cp:revision>
  <dc:subject/>
  <dc:title>Diapositiva 1</dc:title>
</cp:coreProperties>
</file>