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DFA-D10E-41B7-B357-4D92FF3C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65F-B0A1-4331-9C65-1812A1B3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804-673E-4096-A432-631DD21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D71-3D90-43D6-BB31-AFCA7B3E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084-CBAC-4F15-B3FF-C5A6CC3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1F6-AAD6-433D-838E-53AEDE8A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569-2F8B-485E-AC3D-7F393DAD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FAD-B20E-4CDD-BF35-7E2D7C29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407-EE45-43C8-8EC1-0FDACAF7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F28-6EE5-4BCC-B018-7267071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69-DAC9-4FBD-8DB1-3B6190B9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4A8-406E-46CC-9B4B-F844F8C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221D-06D7-478B-BDBA-020C49777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716112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3619440" cy="112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3814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0024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82680" y="223848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762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1330200"/>
            <a:ext cx="72025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00240" y="990720"/>
            <a:ext cx="6743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90520" y="2457360"/>
            <a:ext cx="6762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76400" y="528480"/>
            <a:ext cx="69912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5:57Z</dcterms:created>
  <dc:creator>miguel_angel</dc:creator>
  <dc:description/>
  <dc:language>en-US</dc:language>
  <cp:lastModifiedBy>miguel_angel</cp:lastModifiedBy>
  <dcterms:modified xsi:type="dcterms:W3CDTF">2007-11-10T20:34:51Z</dcterms:modified>
  <cp:revision>4</cp:revision>
  <dc:subject/>
  <dc:title>Diapositiva 1</dc:title>
</cp:coreProperties>
</file>