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E7C-5314-4FE3-B876-0B46A62B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ED1-FA57-43FB-9786-B21B7C39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21A-08D2-4DC2-95AD-A531E445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367-C3C0-4BF2-A9FF-C1FF9D69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C55-58C9-4222-963F-C0A53407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55B-7EC2-43BE-AF88-10C8CD3A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F11-44EB-4C18-A1BD-EB37CF0A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1DF-1636-4546-B37A-60B396BE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3A5-0862-4B93-A146-F1260A19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58B-DD29-4BB8-A1AD-1167CAB4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08E-9317-40A8-B09F-F67CD944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BF9-3AED-4D94-88C7-EDEC4D99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62E2-8009-4953-82C8-CC7600BB7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7161120" cy="3095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3619440" cy="1123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48000" y="2421000"/>
            <a:ext cx="23814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44800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1200240" cy="52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182680" y="223848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67626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1480" y="1330200"/>
            <a:ext cx="72025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00240" y="990720"/>
            <a:ext cx="6743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90520" y="2457360"/>
            <a:ext cx="67629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76400" y="528480"/>
            <a:ext cx="69912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5:57Z</dcterms:created>
  <dc:creator>miguel_angel</dc:creator>
  <dc:description/>
  <dc:language>en-US</dc:language>
  <cp:lastModifiedBy>miguel_angel</cp:lastModifiedBy>
  <dcterms:modified xsi:type="dcterms:W3CDTF">2007-11-10T20:34:51Z</dcterms:modified>
  <cp:revision>4</cp:revision>
  <dc:subject/>
  <dc:title>Diapositiva 1</dc:title>
</cp:coreProperties>
</file>